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10.wmf" ContentType="image/x-wmf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57.png" ContentType="image/png"/>
  <Override PartName="/ppt/media/image36.jpeg" ContentType="image/jpeg"/>
  <Override PartName="/ppt/media/image47.png" ContentType="image/png"/>
  <Override PartName="/ppt/media/image35.jpeg" ContentType="image/jpeg"/>
  <Override PartName="/ppt/media/image33.jpeg" ContentType="image/jpeg"/>
  <Override PartName="/ppt/media/image30.jpeg" ContentType="image/jpeg"/>
  <Override PartName="/ppt/media/image83.wmf" ContentType="image/x-wmf"/>
  <Override PartName="/ppt/media/image24.jpeg" ContentType="image/jpeg"/>
  <Override PartName="/ppt/media/image59.png" ContentType="image/png"/>
  <Override PartName="/ppt/media/image60.png" ContentType="image/png"/>
  <Override PartName="/ppt/media/image28.jpeg" ContentType="image/jpeg"/>
  <Override PartName="/ppt/media/image62.png" ContentType="image/png"/>
  <Override PartName="/ppt/media/image6.jpeg" ContentType="image/jpeg"/>
  <Override PartName="/ppt/media/image71.png" ContentType="image/png"/>
  <Override PartName="/ppt/media/image12.png" ContentType="image/png"/>
  <Override PartName="/ppt/media/image49.png" ContentType="image/png"/>
  <Override PartName="/ppt/media/image32.jpeg" ContentType="image/jpeg"/>
  <Override PartName="/ppt/media/image26.jpeg" ContentType="image/jpeg"/>
  <Override PartName="/ppt/media/image79.png" ContentType="image/png"/>
  <Override PartName="/ppt/media/image21.jpeg" ContentType="image/jpeg"/>
  <Override PartName="/ppt/media/image65.png" ContentType="image/png"/>
  <Override PartName="/ppt/media/image29.jpeg" ContentType="image/jpeg"/>
  <Override PartName="/ppt/media/image61.png" ContentType="image/png"/>
  <Override PartName="/ppt/media/image86.png" ContentType="image/png"/>
  <Override PartName="/ppt/media/image31.jpeg" ContentType="image/jpeg"/>
  <Override PartName="/ppt/media/image7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78.png" ContentType="image/png"/>
  <Override PartName="/ppt/media/image69.jpeg" ContentType="image/jpeg"/>
  <Override PartName="/ppt/media/image9.wmf" ContentType="image/x-wmf"/>
  <Override PartName="/ppt/media/image77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png" ContentType="image/png"/>
  <Override PartName="/ppt/media/image68.png" ContentType="image/png"/>
  <Override PartName="/ppt/media/image63.png" ContentType="image/png"/>
  <Override PartName="/ppt/media/image17.png" ContentType="image/png"/>
  <Override PartName="/ppt/media/image39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25.jpeg" ContentType="image/jpeg"/>
  <Override PartName="/ppt/media/image19.jpeg" ContentType="image/jpeg"/>
  <Override PartName="/ppt/media/image18.png" ContentType="image/png"/>
  <Override PartName="/ppt/media/image42.jpeg" ContentType="image/jpeg"/>
  <Override PartName="/ppt/media/image11.png" ContentType="image/png"/>
  <Override PartName="/ppt/media/image48.png" ContentType="image/png"/>
  <Override PartName="/ppt/media/image52.png" ContentType="image/png"/>
  <Override PartName="/ppt/media/image82.wmf" ContentType="image/x-wmf"/>
  <Override PartName="/ppt/media/image5.wmf" ContentType="image/x-wmf"/>
  <Override PartName="/ppt/media/image27.jpeg" ContentType="image/jpeg"/>
  <Override PartName="/ppt/media/image23.jpeg" ContentType="image/jpeg"/>
  <Override PartName="/ppt/media/image8.png" ContentType="image/png"/>
  <Override PartName="/ppt/media/image85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75.png" ContentType="image/png"/>
  <Override PartName="/ppt/media/image84.png" ContentType="image/png"/>
  <Override PartName="/ppt/media/image7.png" ContentType="image/png"/>
  <Override PartName="/ppt/media/image34.jpeg" ContentType="image/jpeg"/>
  <Override PartName="/ppt/media/image2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2D04-85C6-4BB0-938E-224CCBE7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phacts is an imi project with an mou with ehr4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4B02-E6A8-40BF-B8E2-28A392D6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ecting Data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sy to expose data to openpha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RDF with dataset descri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ntactic interoperability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ommendations over mandates (we recommend certain ontologies but do not require th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ap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are cru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ppings between terminologies and data and between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E76E-FA7B-4D55-AC8C-8A9DC2C9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d triples 479,440,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triples are larger because of additional data from wikipathway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 GB on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12 GB 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GB RAM / billion tr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10B-F8F6-4367-A49C-225CC6E8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1E66-9664-4E8E-A632-021658C8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mplex reasoning has not been essential – basic semweb reasoning goes along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5F9-160F-4189-AB9A-4DDF8010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issue here is that the same compound in two different databases might have subtle differences (salt forms, stereo chemistry etc). Integration systems often apply a “one size fits all rule” which aligns some, but not all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0B20-EEFA-4C03-890A-DAD876820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 the shelf when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ed data api = http://code.google.com/p/linked-data-api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an a competitive call for t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4257-58C0-4FE2-8C88-E2D0A9F6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74F3-D147-4A4F-8A5F-8E70AEE0D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ig servers: 330 gigabytes of ram, flash drives – pro triple s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ommendation is easier but requires mor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st, other formats – tsv, j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571-63EE-4E56-B3D8-0E004371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Very keen on further 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935-86D6-4B6C-A127-52B873F2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) A platform for integrated pharmacology data based on open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) Easy to build multiple drug discovery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) Deals with both public domain and commercial data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) Example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80F-5ED8-4C09-939D-7C45499D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prioritized business questions by phar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p priority business question – 5 people 6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8501-4AC4-4126-BE52-17335FE0B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FF93-1EB3-45F1-B707-8949C015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1F5B-7635-4B62-BFB2-83EBD9A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0777-102C-4F4F-991D-1B7225AE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215A-C3FF-413E-BD91-2A1688B0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31F3-9234-4945-BD25-4A14A7DB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57D1-8424-4346-A3B5-2C79F25F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4B01-623C-4A33-8F3B-66356B22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6868-2C3E-4A67-86A0-F1FDA63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56BC-F5F0-45A6-A059-E2EC2A2B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88F-9A8E-4D93-8349-C728425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8DD8-C5ED-481E-83F8-FFA3B6E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E6D9-5581-4952-B6A6-CBEA103A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979E-89B9-4635-B0B3-96BC5FD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ECDB-A770-45C8-A55B-152E1A0D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AA9D-3EB5-4154-BB85-C0917353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398-23B9-4794-BA94-BD120181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5CF5-CEAC-4F50-B5B2-B7048E8F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98BF-E5DF-4688-876D-CEA49264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909B-EF36-4758-95AD-3747C54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0BF2-C18E-4017-B827-8C56006F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FB46-4C69-43D4-B54F-DF33B77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6309-1DB3-44C4-876E-3BA59CA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85F5-64D7-45B8-BF4B-D2B13FCC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6B97-FECA-4BD2-90CF-1FB1AFC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DE1-56B0-43BF-8341-E7DE2C1714D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DE4-0872-49FB-9754-7E3F1E09F4AC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F33-65A1-4DCC-8D16-78DF6155824B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85B0-A445-42AC-A512-423FC5EC77D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5.wmf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5.wmf"/><Relationship Id="rId14" Type="http://schemas.openxmlformats.org/officeDocument/2006/relationships/image" Target="../media/image6.jpe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5.wmf"/><Relationship Id="rId20" Type="http://schemas.openxmlformats.org/officeDocument/2006/relationships/image" Target="../media/image6.jpe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wmf"/><Relationship Id="rId24" Type="http://schemas.openxmlformats.org/officeDocument/2006/relationships/image" Target="../media/image10.wmf"/><Relationship Id="rId25" Type="http://schemas.openxmlformats.org/officeDocument/2006/relationships/image" Target="../media/image5.wmf"/><Relationship Id="rId26" Type="http://schemas.openxmlformats.org/officeDocument/2006/relationships/image" Target="../media/image6.jpe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9.wmf"/><Relationship Id="rId30" Type="http://schemas.openxmlformats.org/officeDocument/2006/relationships/image" Target="../media/image10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phacts.org/" TargetMode="External"/><Relationship Id="rId2" Type="http://schemas.openxmlformats.org/officeDocument/2006/relationships/hyperlink" Target="mailto:pmu@openphacts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jpeg"/><Relationship Id="rId25" Type="http://schemas.openxmlformats.org/officeDocument/2006/relationships/image" Target="../media/image42.jpeg"/><Relationship Id="rId26" Type="http://schemas.openxmlformats.org/officeDocument/2006/relationships/image" Target="../media/image43.jpe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jpe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Paul 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http://www.few.vu.nl/~pgroth/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@pgroth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VU University Amsterdam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BCB-775F-4822-ACF8-53640E4DFE7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eite1"/>
          <p:cNvPicPr/>
          <p:nvPr/>
        </p:nvPicPr>
        <p:blipFill>
          <a:blip r:embed="rId1"/>
          <a:srcRect l="0" t="35950" r="41994" b="44008"/>
          <a:stretch/>
        </p:blipFill>
        <p:spPr>
          <a:xfrm>
            <a:off x="1835280" y="2133720"/>
            <a:ext cx="530532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9771-4598-4FCB-8C9C-6F277175696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oscar-screenshot.png"/>
          <p:cNvPicPr/>
          <p:nvPr/>
        </p:nvPicPr>
        <p:blipFill>
          <a:blip r:embed="rId1"/>
          <a:stretch/>
        </p:blipFill>
        <p:spPr>
          <a:xfrm>
            <a:off x="2340000" y="0"/>
            <a:ext cx="6192720" cy="6496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8"/>
          <p:cNvSpPr/>
          <p:nvPr/>
        </p:nvSpPr>
        <p:spPr>
          <a:xfrm>
            <a:off x="476640" y="19044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Principles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spect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Make it easy for application develop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5A1-C1B2-4B31-9FC1-9FEECD3EC9E2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approach</a:t>
            </a:r>
            <a:br>
              <a:rPr sz="4400"/>
            </a:b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6D29-C01D-4303-B4F8-FE6864FA58F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417600" y="1125360"/>
            <a:ext cx="8451720" cy="4515120"/>
          </a:xfrm>
          <a:prstGeom prst="rect">
            <a:avLst/>
          </a:prstGeom>
          <a:ln w="0">
            <a:noFill/>
          </a:ln>
        </p:spPr>
      </p:pic>
      <p:sp>
        <p:nvSpPr>
          <p:cNvPr id="331" name="Up Arrow 6"/>
          <p:cNvSpPr/>
          <p:nvPr/>
        </p:nvSpPr>
        <p:spPr>
          <a:xfrm>
            <a:off x="826920" y="3068640"/>
            <a:ext cx="576360" cy="7920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– Data set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216D-4CA1-41CD-A8E2-7C31DD955BB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8"/>
          <p:cNvGraphicFramePr/>
          <p:nvPr/>
        </p:nvGraphicFramePr>
        <p:xfrm>
          <a:off x="826920" y="1916280"/>
          <a:ext cx="7515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515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2"/>
          <p:cNvSpPr/>
          <p:nvPr/>
        </p:nvSpPr>
        <p:spPr>
          <a:xfrm>
            <a:off x="-252360" y="76500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14,535,923 tr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635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Resources - Mapping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ECE-4738-4941-9790-C64D15D3AC4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rcRect l="0" t="0" r="21360" b="0"/>
          <a:stretch/>
        </p:blipFill>
        <p:spPr>
          <a:xfrm>
            <a:off x="2556000" y="981000"/>
            <a:ext cx="2952720" cy="5138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rcRect l="0" t="0" r="19458" b="0"/>
          <a:stretch/>
        </p:blipFill>
        <p:spPr>
          <a:xfrm>
            <a:off x="5867280" y="981000"/>
            <a:ext cx="2665440" cy="4896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224280" y="227664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p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-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ypes of semantic resourc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DF Datase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Mapping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Terminolog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Mesh, UMLS, NCIM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Hierarchies are essential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E.G. Target Ontology, Gene Ontology, Enzyme classification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Class reasoning is essential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120-2A6A-4B27-9F5C-34F9BCB466D1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604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Methodology for semantic integr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1268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use case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ata Providers – create RDF with VoID header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Create mapping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between dataset and known datasets (instance leve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index for text to url convers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ngest RDF into data cache (i.e. triple store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Define access paths to core concepts in data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Extend or create sparql queries for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Publish api call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0F3-BEAB-496F-B643-1E196F1FC1A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4319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Its easy to integrate, but difficult to integrate well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507960" y="1324080"/>
            <a:ext cx="8115480" cy="3733560"/>
            <a:chOff x="507960" y="1324080"/>
            <a:chExt cx="8115480" cy="3733560"/>
          </a:xfrm>
        </p:grpSpPr>
        <p:pic>
          <p:nvPicPr>
            <p:cNvPr id="354" name="Picture 4" descr=""/>
            <p:cNvPicPr/>
            <p:nvPr/>
          </p:nvPicPr>
          <p:blipFill>
            <a:blip r:embed="rId1"/>
            <a:stretch/>
          </p:blipFill>
          <p:spPr>
            <a:xfrm>
              <a:off x="507960" y="1324080"/>
              <a:ext cx="811548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5"/>
            <p:cNvSpPr/>
            <p:nvPr/>
          </p:nvSpPr>
          <p:spPr>
            <a:xfrm>
              <a:off x="612720" y="2462040"/>
              <a:ext cx="3122640" cy="4618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asic Semweb standard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SPARQL 1.1, RDF(S), SKO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Dataset description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cabulary of Interlinked Datasets (VoID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VoID linkset descrip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QUDT Quantities, Units, Dimensions and Typ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Provenanc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446a"/>
                </a:solidFill>
                <a:latin typeface="Calibri"/>
              </a:rPr>
              <a:t>W3C PROV, PAV, Nanopublication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446a"/>
                </a:solidFill>
                <a:latin typeface="Calibri"/>
              </a:rPr>
              <a:t>BioPortal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31A-4BFC-4E47-8E6A-1E6653BAB464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Tooling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Infrastructure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Linked Data API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Bridge DB - identifier to identifier mapping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ncept Wiki - text to identifier mapping and cura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hemspider: chemistry registration and servic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Triple Store: Virtuoso Professional addition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ata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VoID descriptions and http and ftp site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Github for data conversion scripts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Recommend turtle as RDF syntax 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friendly for script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CEE-E6B5-4A2E-97A2-FEB904E5230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80880" y="836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8a54"/>
                </a:solidFill>
                <a:latin typeface="Calibri"/>
              </a:rPr>
              <a:t>We are all doing this many times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0"/>
          <p:cNvGrpSpPr/>
          <p:nvPr/>
        </p:nvGrpSpPr>
        <p:grpSpPr>
          <a:xfrm>
            <a:off x="122400" y="836640"/>
            <a:ext cx="5386320" cy="2924280"/>
            <a:chOff x="122400" y="836640"/>
            <a:chExt cx="5386320" cy="2924280"/>
          </a:xfrm>
        </p:grpSpPr>
        <p:sp>
          <p:nvSpPr>
            <p:cNvPr id="101" name="Round Diagonal Corner Rectangle 143"/>
            <p:cNvSpPr/>
            <p:nvPr/>
          </p:nvSpPr>
          <p:spPr>
            <a:xfrm>
              <a:off x="122400" y="1407960"/>
              <a:ext cx="5386320" cy="2352960"/>
            </a:xfrm>
            <a:custGeom>
              <a:avLst/>
              <a:gdLst/>
              <a:ahLst/>
              <a:rect l="l" t="t" r="r" b="b"/>
              <a:pathLst>
                <a:path w="5386894" h="2352734">
                  <a:moveTo>
                    <a:pt x="392130" y="0"/>
                  </a:moveTo>
                  <a:lnTo>
                    <a:pt x="5386894" y="0"/>
                  </a:lnTo>
                  <a:lnTo>
                    <a:pt x="5386894" y="0"/>
                  </a:lnTo>
                  <a:lnTo>
                    <a:pt x="5386894" y="1960604"/>
                  </a:lnTo>
                  <a:cubicBezTo>
                    <a:pt x="5386894" y="2177171"/>
                    <a:pt x="5211331" y="2352734"/>
                    <a:pt x="4994764" y="2352734"/>
                  </a:cubicBezTo>
                  <a:lnTo>
                    <a:pt x="0" y="2352734"/>
                  </a:lnTo>
                  <a:lnTo>
                    <a:pt x="0" y="2352734"/>
                  </a:lnTo>
                  <a:lnTo>
                    <a:pt x="0" y="392130"/>
                  </a:lnTo>
                  <a:cubicBezTo>
                    <a:pt x="0" y="175563"/>
                    <a:pt x="175563" y="0"/>
                    <a:pt x="3921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a7ccb"/>
                </a:gs>
                <a:gs pos="100000">
                  <a:srgbClr val="2c5d98"/>
                </a:gs>
              </a:gsLst>
              <a:lin ang="54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42"/>
            <p:cNvGrpSpPr/>
            <p:nvPr/>
          </p:nvGrpSpPr>
          <p:grpSpPr>
            <a:xfrm>
              <a:off x="348840" y="836640"/>
              <a:ext cx="5029200" cy="2908800"/>
              <a:chOff x="348840" y="836640"/>
              <a:chExt cx="5029200" cy="2908800"/>
            </a:xfrm>
          </p:grpSpPr>
          <p:grpSp>
            <p:nvGrpSpPr>
              <p:cNvPr id="103" name="Group 118"/>
              <p:cNvGrpSpPr/>
              <p:nvPr/>
            </p:nvGrpSpPr>
            <p:grpSpPr>
              <a:xfrm>
                <a:off x="348840" y="836640"/>
                <a:ext cx="5029200" cy="2908800"/>
                <a:chOff x="348840" y="836640"/>
                <a:chExt cx="5029200" cy="2908800"/>
              </a:xfrm>
            </p:grpSpPr>
            <p:grpSp>
              <p:nvGrpSpPr>
                <p:cNvPr id="104" name="Group 18"/>
                <p:cNvGrpSpPr/>
                <p:nvPr/>
              </p:nvGrpSpPr>
              <p:grpSpPr>
                <a:xfrm>
                  <a:off x="1709280" y="836640"/>
                  <a:ext cx="2947320" cy="1214640"/>
                  <a:chOff x="1709280" y="836640"/>
                  <a:chExt cx="2947320" cy="1214640"/>
                </a:xfrm>
              </p:grpSpPr>
              <p:sp>
                <p:nvSpPr>
                  <p:cNvPr id="105" name="Line 11"/>
                  <p:cNvSpPr/>
                  <p:nvPr/>
                </p:nvSpPr>
                <p:spPr>
                  <a:xfrm>
                    <a:off x="1709280" y="2051280"/>
                    <a:ext cx="517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3"/>
                  <p:cNvSpPr/>
                  <p:nvPr/>
                </p:nvSpPr>
                <p:spPr>
                  <a:xfrm>
                    <a:off x="4656600" y="836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Picture 1" descr="C:\Documents and Settings\williams_bi\Local Settings\Temporary Internet Files\Content.IE5\NCB4CN79\MC900311860[1]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4280" y="1626840"/>
                  <a:ext cx="1144080" cy="857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C:\Documents and Settings\williams_bi\Local Settings\Temporary Internet Files\Content.IE5\O5HQD79B\MP900402692[1]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07240" y="1681560"/>
                  <a:ext cx="1256040" cy="81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5" descr="C:\Documents and Settings\williams_bi\Local Settings\Temporary Internet Files\Content.IE5\PJ71VBD2\MC900431499[1]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7920" y="2885760"/>
                  <a:ext cx="1153800" cy="82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6" descr="C:\Documents and Settings\williams_bi\Local Settings\Temporary Internet Files\Content.IE5\KD2YG92R\MC900432644[1]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96240" y="1613160"/>
                  <a:ext cx="1081800" cy="87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7" descr="C:\Documents and Settings\williams_bi\Local Settings\Temporary Internet Files\Content.IE5\1AMI4QH7\MC900059570[1].wm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26600" y="2885760"/>
                  <a:ext cx="1114200" cy="79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Line 12"/>
                <p:cNvSpPr/>
                <p:nvPr/>
              </p:nvSpPr>
              <p:spPr>
                <a:xfrm>
                  <a:off x="3598920" y="205092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 flipH="1">
                  <a:off x="342000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2"/>
                <p:cNvSpPr/>
                <p:nvPr/>
              </p:nvSpPr>
              <p:spPr>
                <a:xfrm flipH="1">
                  <a:off x="1523880" y="3273480"/>
                  <a:ext cx="549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5" name="Picture 9" descr="C:\Documents and Settings\williams_bi\Local Settings\Temporary Internet Files\Content.IE5\J3TDAGIZ\MC900059634[1]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8840" y="2885760"/>
                  <a:ext cx="106344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6" name="Line 13"/>
              <p:cNvSpPr/>
              <p:nvPr/>
            </p:nvSpPr>
            <p:spPr>
              <a:xfrm>
                <a:off x="4809960" y="2423160"/>
                <a:ext cx="0" cy="46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134"/>
          <p:cNvSpPr/>
          <p:nvPr/>
        </p:nvSpPr>
        <p:spPr>
          <a:xfrm>
            <a:off x="4739040" y="10382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48a54"/>
                </a:solidFill>
                <a:latin typeface="Arial"/>
              </a:rPr>
              <a:t>Pf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12"/>
          <p:cNvGrpSpPr/>
          <p:nvPr/>
        </p:nvGrpSpPr>
        <p:grpSpPr>
          <a:xfrm>
            <a:off x="646200" y="1174680"/>
            <a:ext cx="5386320" cy="2924280"/>
            <a:chOff x="646200" y="1174680"/>
            <a:chExt cx="5386320" cy="2924280"/>
          </a:xfrm>
        </p:grpSpPr>
        <p:grpSp>
          <p:nvGrpSpPr>
            <p:cNvPr id="119" name="Group 135"/>
            <p:cNvGrpSpPr/>
            <p:nvPr/>
          </p:nvGrpSpPr>
          <p:grpSpPr>
            <a:xfrm>
              <a:off x="646200" y="1174680"/>
              <a:ext cx="5386320" cy="2924280"/>
              <a:chOff x="646200" y="1174680"/>
              <a:chExt cx="5386320" cy="2924280"/>
            </a:xfrm>
          </p:grpSpPr>
          <p:sp>
            <p:nvSpPr>
              <p:cNvPr id="120" name="Round Diagonal Corner Rectangle 136"/>
              <p:cNvSpPr/>
              <p:nvPr/>
            </p:nvSpPr>
            <p:spPr>
              <a:xfrm>
                <a:off x="646200" y="17460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142"/>
              <p:cNvGrpSpPr/>
              <p:nvPr/>
            </p:nvGrpSpPr>
            <p:grpSpPr>
              <a:xfrm>
                <a:off x="872640" y="1174680"/>
                <a:ext cx="5029200" cy="2908800"/>
                <a:chOff x="872640" y="1174680"/>
                <a:chExt cx="5029200" cy="2908800"/>
              </a:xfrm>
            </p:grpSpPr>
            <p:grpSp>
              <p:nvGrpSpPr>
                <p:cNvPr id="122" name="Group 118"/>
                <p:cNvGrpSpPr/>
                <p:nvPr/>
              </p:nvGrpSpPr>
              <p:grpSpPr>
                <a:xfrm>
                  <a:off x="872640" y="1174680"/>
                  <a:ext cx="5029200" cy="2908800"/>
                  <a:chOff x="872640" y="1174680"/>
                  <a:chExt cx="5029200" cy="2908800"/>
                </a:xfrm>
              </p:grpSpPr>
              <p:grpSp>
                <p:nvGrpSpPr>
                  <p:cNvPr id="123" name="Group 18"/>
                  <p:cNvGrpSpPr/>
                  <p:nvPr/>
                </p:nvGrpSpPr>
                <p:grpSpPr>
                  <a:xfrm>
                    <a:off x="2233080" y="1174680"/>
                    <a:ext cx="2947320" cy="1402200"/>
                    <a:chOff x="2233080" y="1174680"/>
                    <a:chExt cx="2947320" cy="1402200"/>
                  </a:xfrm>
                </p:grpSpPr>
                <p:sp>
                  <p:nvSpPr>
                    <p:cNvPr id="124" name="Line 11"/>
                    <p:cNvSpPr/>
                    <p:nvPr/>
                  </p:nvSpPr>
                  <p:spPr>
                    <a:xfrm>
                      <a:off x="2233080" y="25768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13"/>
                    <p:cNvSpPr/>
                    <p:nvPr/>
                  </p:nvSpPr>
                  <p:spPr>
                    <a:xfrm>
                      <a:off x="5180400" y="11746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26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8080" y="19648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1040" y="20196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8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71720" y="32238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9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20040" y="19512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0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0400" y="32238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Line 12"/>
                  <p:cNvSpPr/>
                  <p:nvPr/>
                </p:nvSpPr>
                <p:spPr>
                  <a:xfrm>
                    <a:off x="4122720" y="2389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12"/>
                  <p:cNvSpPr/>
                  <p:nvPr/>
                </p:nvSpPr>
                <p:spPr>
                  <a:xfrm flipH="1">
                    <a:off x="39445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12"/>
                  <p:cNvSpPr/>
                  <p:nvPr/>
                </p:nvSpPr>
                <p:spPr>
                  <a:xfrm flipH="1">
                    <a:off x="2047320" y="36118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4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2640" y="32238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35" name="Line 13"/>
                <p:cNvSpPr/>
                <p:nvPr/>
              </p:nvSpPr>
              <p:spPr>
                <a:xfrm>
                  <a:off x="5334120" y="276084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TextBox 157"/>
            <p:cNvSpPr/>
            <p:nvPr/>
          </p:nvSpPr>
          <p:spPr>
            <a:xfrm>
              <a:off x="5556240" y="13762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13"/>
          <p:cNvGrpSpPr/>
          <p:nvPr/>
        </p:nvGrpSpPr>
        <p:grpSpPr>
          <a:xfrm>
            <a:off x="1251000" y="1514520"/>
            <a:ext cx="5576040" cy="2924280"/>
            <a:chOff x="1251000" y="1514520"/>
            <a:chExt cx="5576040" cy="2924280"/>
          </a:xfrm>
        </p:grpSpPr>
        <p:grpSp>
          <p:nvGrpSpPr>
            <p:cNvPr id="138" name="Group 158"/>
            <p:cNvGrpSpPr/>
            <p:nvPr/>
          </p:nvGrpSpPr>
          <p:grpSpPr>
            <a:xfrm>
              <a:off x="1251000" y="1514520"/>
              <a:ext cx="5387760" cy="2924280"/>
              <a:chOff x="1251000" y="1514520"/>
              <a:chExt cx="5387760" cy="2924280"/>
            </a:xfrm>
          </p:grpSpPr>
          <p:sp>
            <p:nvSpPr>
              <p:cNvPr id="139" name="Round Diagonal Corner Rectangle 159"/>
              <p:cNvSpPr/>
              <p:nvPr/>
            </p:nvSpPr>
            <p:spPr>
              <a:xfrm>
                <a:off x="1251000" y="208584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195" h="2352734">
                    <a:moveTo>
                      <a:pt x="392130" y="0"/>
                    </a:moveTo>
                    <a:lnTo>
                      <a:pt x="5387195" y="0"/>
                    </a:lnTo>
                    <a:lnTo>
                      <a:pt x="5387195" y="0"/>
                    </a:lnTo>
                    <a:lnTo>
                      <a:pt x="5387195" y="1960604"/>
                    </a:lnTo>
                    <a:cubicBezTo>
                      <a:pt x="5387195" y="2177171"/>
                      <a:pt x="5211632" y="2352734"/>
                      <a:pt x="4995065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42"/>
              <p:cNvGrpSpPr/>
              <p:nvPr/>
            </p:nvGrpSpPr>
            <p:grpSpPr>
              <a:xfrm>
                <a:off x="1477440" y="1514520"/>
                <a:ext cx="5030280" cy="2908800"/>
                <a:chOff x="1477440" y="1514520"/>
                <a:chExt cx="5030280" cy="2908800"/>
              </a:xfrm>
            </p:grpSpPr>
            <p:grpSp>
              <p:nvGrpSpPr>
                <p:cNvPr id="141" name="Group 118"/>
                <p:cNvGrpSpPr/>
                <p:nvPr/>
              </p:nvGrpSpPr>
              <p:grpSpPr>
                <a:xfrm>
                  <a:off x="1477440" y="1514520"/>
                  <a:ext cx="5030280" cy="2908800"/>
                  <a:chOff x="1477440" y="1514520"/>
                  <a:chExt cx="5030280" cy="2908800"/>
                </a:xfrm>
              </p:grpSpPr>
              <p:grpSp>
                <p:nvGrpSpPr>
                  <p:cNvPr id="142" name="Group 18"/>
                  <p:cNvGrpSpPr/>
                  <p:nvPr/>
                </p:nvGrpSpPr>
                <p:grpSpPr>
                  <a:xfrm>
                    <a:off x="2838240" y="1514520"/>
                    <a:ext cx="2948040" cy="1402200"/>
                    <a:chOff x="2838240" y="1514520"/>
                    <a:chExt cx="2948040" cy="1402200"/>
                  </a:xfrm>
                </p:grpSpPr>
                <p:sp>
                  <p:nvSpPr>
                    <p:cNvPr id="143" name="Line 11"/>
                    <p:cNvSpPr/>
                    <p:nvPr/>
                  </p:nvSpPr>
                  <p:spPr>
                    <a:xfrm>
                      <a:off x="2838240" y="2916720"/>
                      <a:ext cx="516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13"/>
                    <p:cNvSpPr/>
                    <p:nvPr/>
                  </p:nvSpPr>
                  <p:spPr>
                    <a:xfrm>
                      <a:off x="5786280" y="151452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45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22880" y="230472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36560" y="235944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7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77240" y="356364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8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25560" y="229104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9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55560" y="356364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Line 12"/>
                  <p:cNvSpPr/>
                  <p:nvPr/>
                </p:nvSpPr>
                <p:spPr>
                  <a:xfrm>
                    <a:off x="4728960" y="27291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2"/>
                  <p:cNvSpPr/>
                  <p:nvPr/>
                </p:nvSpPr>
                <p:spPr>
                  <a:xfrm flipH="1">
                    <a:off x="454932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2"/>
                  <p:cNvSpPr/>
                  <p:nvPr/>
                </p:nvSpPr>
                <p:spPr>
                  <a:xfrm flipH="1">
                    <a:off x="2653560" y="39517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3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77440" y="356364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54" name="Line 13"/>
                <p:cNvSpPr/>
                <p:nvPr/>
              </p:nvSpPr>
              <p:spPr>
                <a:xfrm>
                  <a:off x="5940360" y="310068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TextBox 175"/>
            <p:cNvSpPr/>
            <p:nvPr/>
          </p:nvSpPr>
          <p:spPr>
            <a:xfrm>
              <a:off x="6163200" y="17161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G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14"/>
          <p:cNvGrpSpPr/>
          <p:nvPr/>
        </p:nvGrpSpPr>
        <p:grpSpPr>
          <a:xfrm>
            <a:off x="1835280" y="1909800"/>
            <a:ext cx="5716080" cy="2924280"/>
            <a:chOff x="1835280" y="1909800"/>
            <a:chExt cx="5716080" cy="2924280"/>
          </a:xfrm>
        </p:grpSpPr>
        <p:grpSp>
          <p:nvGrpSpPr>
            <p:cNvPr id="157" name="Group 176"/>
            <p:cNvGrpSpPr/>
            <p:nvPr/>
          </p:nvGrpSpPr>
          <p:grpSpPr>
            <a:xfrm>
              <a:off x="1835280" y="1909800"/>
              <a:ext cx="5387760" cy="2924280"/>
              <a:chOff x="1835280" y="1909800"/>
              <a:chExt cx="5387760" cy="2924280"/>
            </a:xfrm>
          </p:grpSpPr>
          <p:sp>
            <p:nvSpPr>
              <p:cNvPr id="158" name="Round Diagonal Corner Rectangle 177"/>
              <p:cNvSpPr/>
              <p:nvPr/>
            </p:nvSpPr>
            <p:spPr>
              <a:xfrm>
                <a:off x="1835280" y="2481120"/>
                <a:ext cx="5387760" cy="2352960"/>
              </a:xfrm>
              <a:custGeom>
                <a:avLst/>
                <a:gdLst/>
                <a:ahLst/>
                <a:rect l="l" t="t" r="r" b="b"/>
                <a:pathLst>
                  <a:path w="5387004" h="2352734">
                    <a:moveTo>
                      <a:pt x="392130" y="0"/>
                    </a:moveTo>
                    <a:lnTo>
                      <a:pt x="5387004" y="0"/>
                    </a:lnTo>
                    <a:lnTo>
                      <a:pt x="5387004" y="0"/>
                    </a:lnTo>
                    <a:lnTo>
                      <a:pt x="5387004" y="1960604"/>
                    </a:lnTo>
                    <a:cubicBezTo>
                      <a:pt x="5387004" y="2177171"/>
                      <a:pt x="5211441" y="2352734"/>
                      <a:pt x="499487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42"/>
              <p:cNvGrpSpPr/>
              <p:nvPr/>
            </p:nvGrpSpPr>
            <p:grpSpPr>
              <a:xfrm>
                <a:off x="2061720" y="1909800"/>
                <a:ext cx="5030640" cy="2908800"/>
                <a:chOff x="2061720" y="1909800"/>
                <a:chExt cx="5030640" cy="2908800"/>
              </a:xfrm>
            </p:grpSpPr>
            <p:grpSp>
              <p:nvGrpSpPr>
                <p:cNvPr id="160" name="Group 118"/>
                <p:cNvGrpSpPr/>
                <p:nvPr/>
              </p:nvGrpSpPr>
              <p:grpSpPr>
                <a:xfrm>
                  <a:off x="2061720" y="1909800"/>
                  <a:ext cx="5030640" cy="2908800"/>
                  <a:chOff x="2061720" y="1909800"/>
                  <a:chExt cx="5030640" cy="2908800"/>
                </a:xfrm>
              </p:grpSpPr>
              <p:grpSp>
                <p:nvGrpSpPr>
                  <p:cNvPr id="161" name="Group 18"/>
                  <p:cNvGrpSpPr/>
                  <p:nvPr/>
                </p:nvGrpSpPr>
                <p:grpSpPr>
                  <a:xfrm>
                    <a:off x="3422520" y="1909800"/>
                    <a:ext cx="2948400" cy="1402200"/>
                    <a:chOff x="3422520" y="1909800"/>
                    <a:chExt cx="2948400" cy="1402200"/>
                  </a:xfrm>
                </p:grpSpPr>
                <p:sp>
                  <p:nvSpPr>
                    <p:cNvPr id="162" name="Line 11"/>
                    <p:cNvSpPr/>
                    <p:nvPr/>
                  </p:nvSpPr>
                  <p:spPr>
                    <a:xfrm>
                      <a:off x="3422520" y="3312000"/>
                      <a:ext cx="51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3"/>
                    <p:cNvSpPr/>
                    <p:nvPr/>
                  </p:nvSpPr>
                  <p:spPr>
                    <a:xfrm>
                      <a:off x="6370920" y="190980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64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07160" y="2700000"/>
                    <a:ext cx="114444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20840" y="2754720"/>
                    <a:ext cx="125640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61880" y="3958920"/>
                    <a:ext cx="11541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0200" y="2686320"/>
                    <a:ext cx="10821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39840" y="3958920"/>
                    <a:ext cx="11145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Line 12"/>
                  <p:cNvSpPr/>
                  <p:nvPr/>
                </p:nvSpPr>
                <p:spPr>
                  <a:xfrm>
                    <a:off x="5312520" y="312408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2"/>
                  <p:cNvSpPr/>
                  <p:nvPr/>
                </p:nvSpPr>
                <p:spPr>
                  <a:xfrm flipH="1">
                    <a:off x="513396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2"/>
                  <p:cNvSpPr/>
                  <p:nvPr/>
                </p:nvSpPr>
                <p:spPr>
                  <a:xfrm flipH="1">
                    <a:off x="3237120" y="434664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72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61720" y="3958920"/>
                    <a:ext cx="106380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3" name="Line 13"/>
                <p:cNvSpPr/>
                <p:nvPr/>
              </p:nvSpPr>
              <p:spPr>
                <a:xfrm>
                  <a:off x="6524280" y="349632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" name="TextBox 193"/>
            <p:cNvSpPr/>
            <p:nvPr/>
          </p:nvSpPr>
          <p:spPr>
            <a:xfrm>
              <a:off x="6748920" y="21114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Mer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15"/>
          <p:cNvGrpSpPr/>
          <p:nvPr/>
        </p:nvGrpSpPr>
        <p:grpSpPr>
          <a:xfrm>
            <a:off x="3238560" y="2976480"/>
            <a:ext cx="5386320" cy="2924280"/>
            <a:chOff x="3238560" y="2976480"/>
            <a:chExt cx="5386320" cy="2924280"/>
          </a:xfrm>
        </p:grpSpPr>
        <p:grpSp>
          <p:nvGrpSpPr>
            <p:cNvPr id="176" name="Group 194"/>
            <p:cNvGrpSpPr/>
            <p:nvPr/>
          </p:nvGrpSpPr>
          <p:grpSpPr>
            <a:xfrm>
              <a:off x="3238560" y="2976480"/>
              <a:ext cx="5386320" cy="2924280"/>
              <a:chOff x="3238560" y="2976480"/>
              <a:chExt cx="5386320" cy="2924280"/>
            </a:xfrm>
          </p:grpSpPr>
          <p:sp>
            <p:nvSpPr>
              <p:cNvPr id="177" name="Round Diagonal Corner Rectangle 195"/>
              <p:cNvSpPr/>
              <p:nvPr/>
            </p:nvSpPr>
            <p:spPr>
              <a:xfrm>
                <a:off x="3238560" y="3547800"/>
                <a:ext cx="5386320" cy="2352960"/>
              </a:xfrm>
              <a:custGeom>
                <a:avLst/>
                <a:gdLst/>
                <a:ahLst/>
                <a:rect l="l" t="t" r="r" b="b"/>
                <a:pathLst>
                  <a:path w="5386894" h="2352734">
                    <a:moveTo>
                      <a:pt x="392130" y="0"/>
                    </a:moveTo>
                    <a:lnTo>
                      <a:pt x="5386894" y="0"/>
                    </a:lnTo>
                    <a:lnTo>
                      <a:pt x="5386894" y="0"/>
                    </a:lnTo>
                    <a:lnTo>
                      <a:pt x="5386894" y="1960604"/>
                    </a:lnTo>
                    <a:cubicBezTo>
                      <a:pt x="5386894" y="2177171"/>
                      <a:pt x="5211331" y="2352734"/>
                      <a:pt x="4994764" y="2352734"/>
                    </a:cubicBezTo>
                    <a:lnTo>
                      <a:pt x="0" y="2352734"/>
                    </a:lnTo>
                    <a:lnTo>
                      <a:pt x="0" y="2352734"/>
                    </a:lnTo>
                    <a:lnTo>
                      <a:pt x="0" y="392130"/>
                    </a:lnTo>
                    <a:cubicBezTo>
                      <a:pt x="0" y="175563"/>
                      <a:pt x="175563" y="0"/>
                      <a:pt x="3921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7ccb"/>
                  </a:gs>
                  <a:gs pos="100000">
                    <a:srgbClr val="2c5d98"/>
                  </a:gs>
                </a:gsLst>
                <a:lin ang="5400000"/>
              </a:gra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142"/>
              <p:cNvGrpSpPr/>
              <p:nvPr/>
            </p:nvGrpSpPr>
            <p:grpSpPr>
              <a:xfrm>
                <a:off x="3465000" y="2976480"/>
                <a:ext cx="5029200" cy="2908800"/>
                <a:chOff x="3465000" y="2976480"/>
                <a:chExt cx="5029200" cy="2908800"/>
              </a:xfrm>
            </p:grpSpPr>
            <p:grpSp>
              <p:nvGrpSpPr>
                <p:cNvPr id="179" name="Group 118"/>
                <p:cNvGrpSpPr/>
                <p:nvPr/>
              </p:nvGrpSpPr>
              <p:grpSpPr>
                <a:xfrm>
                  <a:off x="3465000" y="2976480"/>
                  <a:ext cx="5029200" cy="2908800"/>
                  <a:chOff x="3465000" y="2976480"/>
                  <a:chExt cx="5029200" cy="2908800"/>
                </a:xfrm>
              </p:grpSpPr>
              <p:grpSp>
                <p:nvGrpSpPr>
                  <p:cNvPr id="180" name="Group 18"/>
                  <p:cNvGrpSpPr/>
                  <p:nvPr/>
                </p:nvGrpSpPr>
                <p:grpSpPr>
                  <a:xfrm>
                    <a:off x="4825440" y="2976480"/>
                    <a:ext cx="2947320" cy="1402200"/>
                    <a:chOff x="4825440" y="2976480"/>
                    <a:chExt cx="2947320" cy="1402200"/>
                  </a:xfrm>
                </p:grpSpPr>
                <p:sp>
                  <p:nvSpPr>
                    <p:cNvPr id="181" name="Line 11"/>
                    <p:cNvSpPr/>
                    <p:nvPr/>
                  </p:nvSpPr>
                  <p:spPr>
                    <a:xfrm>
                      <a:off x="4825440" y="4378680"/>
                      <a:ext cx="517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13"/>
                    <p:cNvSpPr/>
                    <p:nvPr/>
                  </p:nvSpPr>
                  <p:spPr>
                    <a:xfrm>
                      <a:off x="7772760" y="29764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83" name="Picture 1" descr="C:\Documents and Settings\williams_bi\Local Settings\Temporary Internet Files\Content.IE5\NCB4CN79\MC900311860[1].wm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10440" y="3766680"/>
                    <a:ext cx="1144080" cy="8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" name="Picture 3" descr="C:\Documents and Settings\williams_bi\Local Settings\Temporary Internet Files\Content.IE5\O5HQD79B\MP900402692[1].jpg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23400" y="3821400"/>
                    <a:ext cx="1256040" cy="8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" name="Picture 5" descr="C:\Documents and Settings\williams_bi\Local Settings\Temporary Internet Files\Content.IE5\PJ71VBD2\MC900431499[1].png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264080" y="5025600"/>
                    <a:ext cx="11538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Picture 6" descr="C:\Documents and Settings\williams_bi\Local Settings\Temporary Internet Files\Content.IE5\KD2YG92R\MC900432644[1].png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12400" y="3753000"/>
                    <a:ext cx="1081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Picture 7" descr="C:\Documents and Settings\williams_bi\Local Settings\Temporary Internet Files\Content.IE5\1AMI4QH7\MC900059570[1].wmf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342760" y="5025600"/>
                    <a:ext cx="111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Line 12"/>
                  <p:cNvSpPr/>
                  <p:nvPr/>
                </p:nvSpPr>
                <p:spPr>
                  <a:xfrm>
                    <a:off x="6715080" y="419076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"/>
                  <p:cNvSpPr/>
                  <p:nvPr/>
                </p:nvSpPr>
                <p:spPr>
                  <a:xfrm flipH="1">
                    <a:off x="653616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2"/>
                  <p:cNvSpPr/>
                  <p:nvPr/>
                </p:nvSpPr>
                <p:spPr>
                  <a:xfrm flipH="1">
                    <a:off x="4640040" y="5413320"/>
                    <a:ext cx="54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91" name="Picture 9" descr="C:\Documents and Settings\williams_bi\Local Settings\Temporary Internet Files\Content.IE5\J3TDAGIZ\MC900059634[1].wmf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65000" y="5025600"/>
                    <a:ext cx="1063440" cy="8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92" name="Line 13"/>
                <p:cNvSpPr/>
                <p:nvPr/>
              </p:nvSpPr>
              <p:spPr>
                <a:xfrm>
                  <a:off x="7926120" y="456300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Box 211"/>
            <p:cNvSpPr/>
            <p:nvPr/>
          </p:nvSpPr>
          <p:spPr>
            <a:xfrm>
              <a:off x="8148240" y="317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234000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Quality assurance of the semantic resourc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Provenance Everywhere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Valid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hemSpider Validation and Standardization Platform (CVSP) for flagging chemical representation issu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46a"/>
                </a:solidFill>
                <a:latin typeface="Calibri"/>
              </a:rPr>
              <a:t>Curation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High quality chemical names and synonyms.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uration interfaces for terminologies (concept wiki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74400" indent="-3744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46a"/>
                </a:solidFill>
                <a:latin typeface="Calibri"/>
              </a:rPr>
              <a:t>Report data quality issues to data provider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698400" indent="-322200">
              <a:spcBef>
                <a:spcPts val="60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9DB9-1270-470B-83E2-533B42A549C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Do not underestimate infrastruc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APIs are importa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Allows for tuning of sparql queri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446a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446a"/>
                </a:solidFill>
                <a:latin typeface="Calibri"/>
              </a:rPr>
              <a:t>Makes it easy for developers 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Ontologies- Requirements vs. Recommendation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Modeling is har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446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1151-80CE-40B4-9072-58BDDD6855A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pen PHACTS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mu@openphacts.org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@Open_PHACT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Overview paper: Williams, A.J., Harland, L., Groth, P., Pettifer, S., Chichester, C., Willighagen, E.L., Evelo, C.T., Blomberg, N., Ecker, G., Goble, C., Mons, B.: Open PHACTS: Semantic interoperability for drug discovery. Drug Discovery Today. 17, 1188–1198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46a"/>
                </a:solidFill>
                <a:latin typeface="Calibri"/>
              </a:rPr>
              <a:t>Technical approach: Gray, A.J.G., Groth, P., Loizou, A., et al.: Applying linked data approaches to pharmacology: Architectural decisions and implementation. Semantic Web. (2012).</a:t>
            </a: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65AD-36ED-435A-9D6A-63C29976C61F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84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Open PHACTS objectiv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7" name="Espace réservé du pied de page 6"/>
          <p:cNvSpPr/>
          <p:nvPr/>
        </p:nvSpPr>
        <p:spPr>
          <a:xfrm>
            <a:off x="3156120" y="5987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7521480" y="5987880"/>
            <a:ext cx="11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163-DC93-4DD7-98BC-A832A112693F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556000" y="826920"/>
            <a:ext cx="4149720" cy="238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863800" cy="23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5219640" y="3429000"/>
            <a:ext cx="3443400" cy="2498760"/>
          </a:xfrm>
          <a:prstGeom prst="rect">
            <a:avLst/>
          </a:prstGeom>
          <a:ln w="0">
            <a:noFill/>
          </a:ln>
        </p:spPr>
      </p:pic>
      <p:grpSp>
        <p:nvGrpSpPr>
          <p:cNvPr id="202" name="Rounded Rectangle 10"/>
          <p:cNvGrpSpPr/>
          <p:nvPr/>
        </p:nvGrpSpPr>
        <p:grpSpPr>
          <a:xfrm>
            <a:off x="1663560" y="938160"/>
            <a:ext cx="1659240" cy="731880"/>
            <a:chOff x="1663560" y="938160"/>
            <a:chExt cx="1659240" cy="731880"/>
          </a:xfrm>
        </p:grpSpPr>
        <p:pic>
          <p:nvPicPr>
            <p:cNvPr id="203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1663560" y="938160"/>
              <a:ext cx="16592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792440" y="1009800"/>
              <a:ext cx="1457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12"/>
          <p:cNvGrpSpPr/>
          <p:nvPr/>
        </p:nvGrpSpPr>
        <p:grpSpPr>
          <a:xfrm>
            <a:off x="5194440" y="5187960"/>
            <a:ext cx="1657080" cy="731880"/>
            <a:chOff x="5194440" y="5187960"/>
            <a:chExt cx="1657080" cy="731880"/>
          </a:xfrm>
        </p:grpSpPr>
        <p:pic>
          <p:nvPicPr>
            <p:cNvPr id="206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5194440" y="5187960"/>
              <a:ext cx="16570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321160" y="5257800"/>
              <a:ext cx="14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Stand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3" descr=""/>
          <p:cNvPicPr/>
          <p:nvPr/>
        </p:nvPicPr>
        <p:blipFill>
          <a:blip r:embed="rId6"/>
          <a:stretch/>
        </p:blipFill>
        <p:spPr>
          <a:xfrm>
            <a:off x="1403280" y="3252960"/>
            <a:ext cx="2676600" cy="2479680"/>
          </a:xfrm>
          <a:prstGeom prst="rect">
            <a:avLst/>
          </a:prstGeom>
          <a:ln w="0">
            <a:noFill/>
          </a:ln>
        </p:spPr>
      </p:pic>
      <p:grpSp>
        <p:nvGrpSpPr>
          <p:cNvPr id="209" name="Rounded Rectangle 14"/>
          <p:cNvGrpSpPr/>
          <p:nvPr/>
        </p:nvGrpSpPr>
        <p:grpSpPr>
          <a:xfrm>
            <a:off x="1390680" y="3591000"/>
            <a:ext cx="1650960" cy="731880"/>
            <a:chOff x="1390680" y="3591000"/>
            <a:chExt cx="1650960" cy="731880"/>
          </a:xfrm>
        </p:grpSpPr>
        <p:pic>
          <p:nvPicPr>
            <p:cNvPr id="210" name="Rounded Rectangle 14" descr=""/>
            <p:cNvPicPr/>
            <p:nvPr/>
          </p:nvPicPr>
          <p:blipFill>
            <a:blip r:embed="rId7"/>
            <a:stretch/>
          </p:blipFill>
          <p:spPr>
            <a:xfrm>
              <a:off x="1390680" y="3591000"/>
              <a:ext cx="16509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514520" y="3662280"/>
              <a:ext cx="1457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5"/>
          <p:cNvGrpSpPr/>
          <p:nvPr/>
        </p:nvGrpSpPr>
        <p:grpSpPr>
          <a:xfrm>
            <a:off x="384120" y="5248440"/>
            <a:ext cx="1657440" cy="738000"/>
            <a:chOff x="384120" y="5248440"/>
            <a:chExt cx="1657440" cy="738000"/>
          </a:xfrm>
        </p:grpSpPr>
        <p:pic>
          <p:nvPicPr>
            <p:cNvPr id="213" name="Rounded Rectangle 15" descr=""/>
            <p:cNvPicPr/>
            <p:nvPr/>
          </p:nvPicPr>
          <p:blipFill>
            <a:blip r:embed="rId8"/>
            <a:stretch/>
          </p:blipFill>
          <p:spPr>
            <a:xfrm>
              <a:off x="384120" y="5248440"/>
              <a:ext cx="1657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2640" y="5322960"/>
              <a:ext cx="14572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48a54"/>
                  </a:solidFill>
                  <a:latin typeface="Calibri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E995-607D-4016-9366-2F9FCAEDE0DD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7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897440" y="2776680"/>
            <a:ext cx="1143000" cy="32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2"/>
          <a:stretch/>
        </p:blipFill>
        <p:spPr>
          <a:xfrm>
            <a:off x="7777080" y="1768320"/>
            <a:ext cx="1252800" cy="36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"/>
          <p:cNvPicPr/>
          <p:nvPr/>
        </p:nvPicPr>
        <p:blipFill>
          <a:blip r:embed="rId3"/>
          <a:srcRect l="0" t="0" r="8338" b="0"/>
          <a:stretch/>
        </p:blipFill>
        <p:spPr>
          <a:xfrm>
            <a:off x="3097080" y="1839960"/>
            <a:ext cx="13860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"/>
          <p:cNvPicPr/>
          <p:nvPr/>
        </p:nvPicPr>
        <p:blipFill>
          <a:blip r:embed="rId4"/>
          <a:stretch/>
        </p:blipFill>
        <p:spPr>
          <a:xfrm>
            <a:off x="360360" y="1878120"/>
            <a:ext cx="1584360" cy="46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"/>
          <p:cNvPicPr/>
          <p:nvPr/>
        </p:nvPicPr>
        <p:blipFill>
          <a:blip r:embed="rId5"/>
          <a:stretch/>
        </p:blipFill>
        <p:spPr>
          <a:xfrm>
            <a:off x="6410160" y="2776680"/>
            <a:ext cx="1511640" cy="44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"/>
          <p:cNvPicPr/>
          <p:nvPr/>
        </p:nvPicPr>
        <p:blipFill>
          <a:blip r:embed="rId6"/>
          <a:stretch/>
        </p:blipFill>
        <p:spPr>
          <a:xfrm>
            <a:off x="4826160" y="2200320"/>
            <a:ext cx="1711080" cy="50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7"/>
          <a:srcRect l="0" t="0" r="35018" b="0"/>
          <a:stretch/>
        </p:blipFill>
        <p:spPr>
          <a:xfrm>
            <a:off x="7837560" y="3208320"/>
            <a:ext cx="888840" cy="4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8"/>
          <a:srcRect l="0" t="0" r="13340" b="0"/>
          <a:stretch/>
        </p:blipFill>
        <p:spPr>
          <a:xfrm>
            <a:off x="6491160" y="3279600"/>
            <a:ext cx="1060560" cy="36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9"/>
          <a:stretch/>
        </p:blipFill>
        <p:spPr>
          <a:xfrm>
            <a:off x="433440" y="248760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10"/>
          <a:stretch/>
        </p:blipFill>
        <p:spPr>
          <a:xfrm>
            <a:off x="433440" y="3137040"/>
            <a:ext cx="1466640" cy="43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11"/>
          <a:stretch/>
        </p:blipFill>
        <p:spPr>
          <a:xfrm>
            <a:off x="6337440" y="1839960"/>
            <a:ext cx="1187280" cy="349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"/>
          <p:cNvPicPr/>
          <p:nvPr/>
        </p:nvPicPr>
        <p:blipFill>
          <a:blip r:embed="rId12"/>
          <a:stretch/>
        </p:blipFill>
        <p:spPr>
          <a:xfrm>
            <a:off x="7634160" y="2200320"/>
            <a:ext cx="1227240" cy="36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"/>
          <p:cNvPicPr/>
          <p:nvPr/>
        </p:nvPicPr>
        <p:blipFill>
          <a:blip r:embed="rId13"/>
          <a:stretch/>
        </p:blipFill>
        <p:spPr>
          <a:xfrm>
            <a:off x="4897440" y="3208320"/>
            <a:ext cx="1220760" cy="36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"/>
          <p:cNvPicPr/>
          <p:nvPr/>
        </p:nvPicPr>
        <p:blipFill>
          <a:blip r:embed="rId14"/>
          <a:stretch/>
        </p:blipFill>
        <p:spPr>
          <a:xfrm>
            <a:off x="3097080" y="2703600"/>
            <a:ext cx="1576440" cy="46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"/>
          <p:cNvPicPr/>
          <p:nvPr/>
        </p:nvPicPr>
        <p:blipFill>
          <a:blip r:embed="rId15"/>
          <a:stretch/>
        </p:blipFill>
        <p:spPr>
          <a:xfrm>
            <a:off x="3292560" y="3279600"/>
            <a:ext cx="1079280" cy="3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"/>
          <p:cNvPicPr/>
          <p:nvPr/>
        </p:nvPicPr>
        <p:blipFill>
          <a:blip r:embed="rId16"/>
          <a:stretch/>
        </p:blipFill>
        <p:spPr>
          <a:xfrm>
            <a:off x="4826160" y="1839960"/>
            <a:ext cx="1150920" cy="339840"/>
          </a:xfrm>
          <a:prstGeom prst="rect">
            <a:avLst/>
          </a:prstGeom>
          <a:ln w="0">
            <a:noFill/>
          </a:ln>
        </p:spPr>
      </p:pic>
      <p:pic>
        <p:nvPicPr>
          <p:cNvPr id="234" name="Grafik 26" descr="C:\Users\Anika Robl\AppData\Local\Microsoft\Windows\Temporary Internet Files\Content.Outlook\PFI2JZPG\INGLES_POSITIVO.jpg"/>
          <p:cNvPicPr/>
          <p:nvPr/>
        </p:nvPicPr>
        <p:blipFill>
          <a:blip r:embed="rId17"/>
          <a:stretch/>
        </p:blipFill>
        <p:spPr>
          <a:xfrm>
            <a:off x="6337440" y="2344680"/>
            <a:ext cx="834840" cy="298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18"/>
          <a:stretch/>
        </p:blipFill>
        <p:spPr>
          <a:xfrm>
            <a:off x="1297080" y="1913040"/>
            <a:ext cx="1584360" cy="465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19"/>
          <a:stretch/>
        </p:blipFill>
        <p:spPr>
          <a:xfrm>
            <a:off x="1368360" y="2560680"/>
            <a:ext cx="1470240" cy="43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20"/>
          <a:stretch/>
        </p:blipFill>
        <p:spPr>
          <a:xfrm>
            <a:off x="3168720" y="2344680"/>
            <a:ext cx="1128600" cy="333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" descr=""/>
          <p:cNvPicPr/>
          <p:nvPr/>
        </p:nvPicPr>
        <p:blipFill>
          <a:blip r:embed="rId21"/>
          <a:stretch/>
        </p:blipFill>
        <p:spPr>
          <a:xfrm>
            <a:off x="1441440" y="3137040"/>
            <a:ext cx="1471680" cy="431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22"/>
          <a:stretch/>
        </p:blipFill>
        <p:spPr>
          <a:xfrm>
            <a:off x="7464600" y="2674800"/>
            <a:ext cx="1709640" cy="5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NBIC"/>
          <p:cNvPicPr/>
          <p:nvPr/>
        </p:nvPicPr>
        <p:blipFill>
          <a:blip r:embed="rId23"/>
          <a:stretch/>
        </p:blipFill>
        <p:spPr>
          <a:xfrm>
            <a:off x="4968720" y="3960720"/>
            <a:ext cx="108612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IB"/>
          <p:cNvPicPr/>
          <p:nvPr/>
        </p:nvPicPr>
        <p:blipFill>
          <a:blip r:embed="rId24"/>
          <a:stretch/>
        </p:blipFill>
        <p:spPr>
          <a:xfrm>
            <a:off x="7756560" y="3933720"/>
            <a:ext cx="1028520" cy="55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onnDiscovery"/>
          <p:cNvPicPr/>
          <p:nvPr/>
        </p:nvPicPr>
        <p:blipFill>
          <a:blip r:embed="rId25"/>
          <a:stretch/>
        </p:blipFill>
        <p:spPr>
          <a:xfrm>
            <a:off x="3168720" y="4017960"/>
            <a:ext cx="1638360" cy="399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EBI"/>
          <p:cNvPicPr/>
          <p:nvPr/>
        </p:nvPicPr>
        <p:blipFill>
          <a:blip r:embed="rId26"/>
          <a:stretch/>
        </p:blipFill>
        <p:spPr>
          <a:xfrm>
            <a:off x="1467000" y="4041720"/>
            <a:ext cx="1414440" cy="4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janssen"/>
          <p:cNvPicPr/>
          <p:nvPr/>
        </p:nvPicPr>
        <p:blipFill>
          <a:blip r:embed="rId27"/>
          <a:stretch/>
        </p:blipFill>
        <p:spPr>
          <a:xfrm>
            <a:off x="289080" y="3946680"/>
            <a:ext cx="1064880" cy="614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5" descr="oplogo_std_200x80.png"/>
          <p:cNvPicPr/>
          <p:nvPr/>
        </p:nvPicPr>
        <p:blipFill>
          <a:blip r:embed="rId28"/>
          <a:srcRect l="0" t="0" r="0" b="14179"/>
          <a:stretch/>
        </p:blipFill>
        <p:spPr>
          <a:xfrm>
            <a:off x="6286680" y="3981600"/>
            <a:ext cx="126972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6240-0C5A-4325-A712-8FACF528E016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Associate 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48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3" descr=""/>
          <p:cNvPicPr/>
          <p:nvPr/>
        </p:nvPicPr>
        <p:blipFill>
          <a:blip r:embed="rId1"/>
          <a:stretch/>
        </p:blipFill>
        <p:spPr>
          <a:xfrm>
            <a:off x="7305840" y="2232000"/>
            <a:ext cx="1193760" cy="866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1573200" cy="490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5791320" y="3036960"/>
            <a:ext cx="12938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162920" y="3200400"/>
            <a:ext cx="1647720" cy="69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629000" cy="458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6"/>
          <a:stretch/>
        </p:blipFill>
        <p:spPr>
          <a:xfrm>
            <a:off x="7467480" y="396252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/>
          <p:cNvPicPr/>
          <p:nvPr/>
        </p:nvPicPr>
        <p:blipFill>
          <a:blip r:embed="rId7"/>
          <a:stretch/>
        </p:blipFill>
        <p:spPr>
          <a:xfrm>
            <a:off x="3564000" y="4149720"/>
            <a:ext cx="1101600" cy="693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"/>
          <p:cNvPicPr/>
          <p:nvPr/>
        </p:nvPicPr>
        <p:blipFill>
          <a:blip r:embed="rId8"/>
          <a:stretch/>
        </p:blipFill>
        <p:spPr>
          <a:xfrm>
            <a:off x="457200" y="4343400"/>
            <a:ext cx="1852560" cy="620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9"/>
          <a:stretch/>
        </p:blipFill>
        <p:spPr>
          <a:xfrm>
            <a:off x="2700360" y="3933720"/>
            <a:ext cx="639720" cy="12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10"/>
          <a:stretch/>
        </p:blipFill>
        <p:spPr>
          <a:xfrm>
            <a:off x="3419640" y="5445000"/>
            <a:ext cx="2046240" cy="64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11"/>
          <a:stretch/>
        </p:blipFill>
        <p:spPr>
          <a:xfrm>
            <a:off x="228600" y="3657600"/>
            <a:ext cx="2119320" cy="693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2"/>
          <a:stretch/>
        </p:blipFill>
        <p:spPr>
          <a:xfrm>
            <a:off x="2700360" y="2565360"/>
            <a:ext cx="1560600" cy="50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3"/>
          <a:stretch/>
        </p:blipFill>
        <p:spPr>
          <a:xfrm>
            <a:off x="457200" y="1371600"/>
            <a:ext cx="2065320" cy="4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4"/>
          <a:stretch/>
        </p:blipFill>
        <p:spPr>
          <a:xfrm>
            <a:off x="2195640" y="5300640"/>
            <a:ext cx="820440" cy="105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15"/>
          <a:stretch/>
        </p:blipFill>
        <p:spPr>
          <a:xfrm>
            <a:off x="6934320" y="1371600"/>
            <a:ext cx="1850760" cy="693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"/>
          <p:cNvPicPr/>
          <p:nvPr/>
        </p:nvPicPr>
        <p:blipFill>
          <a:blip r:embed="rId16"/>
          <a:stretch/>
        </p:blipFill>
        <p:spPr>
          <a:xfrm>
            <a:off x="4724280" y="464832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17"/>
          <a:stretch/>
        </p:blipFill>
        <p:spPr>
          <a:xfrm>
            <a:off x="6300720" y="5373720"/>
            <a:ext cx="2306880" cy="8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18"/>
          <a:stretch/>
        </p:blipFill>
        <p:spPr>
          <a:xfrm>
            <a:off x="2987640" y="1628640"/>
            <a:ext cx="1986120" cy="578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\\rsc\userdata\TGH\Home\KiddR\MyDocuments\OPS Publicity\Certara.png"/>
          <p:cNvPicPr/>
          <p:nvPr/>
        </p:nvPicPr>
        <p:blipFill>
          <a:blip r:embed="rId19"/>
          <a:stretch/>
        </p:blipFill>
        <p:spPr>
          <a:xfrm>
            <a:off x="5334120" y="3657600"/>
            <a:ext cx="1555560" cy="449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\\rsc\userdata\TGH\Home\KiddR\MyDocuments\OPS Publicity\EagleGenomics.png"/>
          <p:cNvPicPr/>
          <p:nvPr/>
        </p:nvPicPr>
        <p:blipFill>
          <a:blip r:embed="rId20"/>
          <a:stretch/>
        </p:blipFill>
        <p:spPr>
          <a:xfrm>
            <a:off x="5715000" y="1295280"/>
            <a:ext cx="90180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\\rsc\userdata\TGH\Home\KiddR\MyDocuments\OPS Publicity\Erasmus.png"/>
          <p:cNvPicPr/>
          <p:nvPr/>
        </p:nvPicPr>
        <p:blipFill>
          <a:blip r:embed="rId21"/>
          <a:stretch/>
        </p:blipFill>
        <p:spPr>
          <a:xfrm>
            <a:off x="457200" y="5562720"/>
            <a:ext cx="1193760" cy="449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\\rsc\userdata\TGH\Home\KiddR\MyDocuments\OPS Publicity\MGH.png"/>
          <p:cNvPicPr/>
          <p:nvPr/>
        </p:nvPicPr>
        <p:blipFill>
          <a:blip r:embed="rId22"/>
          <a:stretch/>
        </p:blipFill>
        <p:spPr>
          <a:xfrm>
            <a:off x="4952880" y="3119400"/>
            <a:ext cx="513000" cy="601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3"/>
          <a:stretch/>
        </p:blipFill>
        <p:spPr>
          <a:xfrm>
            <a:off x="5105520" y="2438280"/>
            <a:ext cx="1388880" cy="519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\\rsc\userdata\TGH\Home\KiddR\MyDocuments\OPS Publicity\hyve.jpg"/>
          <p:cNvPicPr/>
          <p:nvPr/>
        </p:nvPicPr>
        <p:blipFill>
          <a:blip r:embed="rId24"/>
          <a:stretch/>
        </p:blipFill>
        <p:spPr>
          <a:xfrm>
            <a:off x="2556000" y="3462480"/>
            <a:ext cx="1616040" cy="344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8" descr=""/>
          <p:cNvPicPr/>
          <p:nvPr/>
        </p:nvPicPr>
        <p:blipFill>
          <a:blip r:embed="rId25"/>
          <a:stretch/>
        </p:blipFill>
        <p:spPr>
          <a:xfrm>
            <a:off x="457200" y="2743200"/>
            <a:ext cx="11732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6"/>
          <a:stretch/>
        </p:blipFill>
        <p:spPr>
          <a:xfrm>
            <a:off x="7010280" y="4800600"/>
            <a:ext cx="1893960" cy="693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0"/>
          <p:cNvSpPr/>
          <p:nvPr/>
        </p:nvSpPr>
        <p:spPr>
          <a:xfrm>
            <a:off x="4788000" y="5013360"/>
            <a:ext cx="98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ce réservé du numéro de diapositive 15"/>
          <p:cNvSpPr/>
          <p:nvPr/>
        </p:nvSpPr>
        <p:spPr>
          <a:xfrm>
            <a:off x="7489800" y="578016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EFE8-6C3F-47F3-8A41-CA6C3A924036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16"/>
          <p:cNvSpPr/>
          <p:nvPr/>
        </p:nvSpPr>
        <p:spPr>
          <a:xfrm>
            <a:off x="3124080" y="57801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/>
          <p:cNvSpPr/>
          <p:nvPr/>
        </p:nvSpPr>
        <p:spPr>
          <a:xfrm>
            <a:off x="108000" y="3068640"/>
            <a:ext cx="14810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7"/>
          <p:cNvSpPr/>
          <p:nvPr/>
        </p:nvSpPr>
        <p:spPr>
          <a:xfrm>
            <a:off x="1762200" y="30272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ug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8"/>
          <p:cNvSpPr/>
          <p:nvPr/>
        </p:nvSpPr>
        <p:spPr>
          <a:xfrm>
            <a:off x="3492360" y="3068640"/>
            <a:ext cx="14796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9"/>
          <p:cNvSpPr/>
          <p:nvPr/>
        </p:nvSpPr>
        <p:spPr>
          <a:xfrm>
            <a:off x="5194440" y="3046320"/>
            <a:ext cx="17222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ki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0"/>
          <p:cNvSpPr/>
          <p:nvPr/>
        </p:nvSpPr>
        <p:spPr>
          <a:xfrm>
            <a:off x="2592360" y="3914640"/>
            <a:ext cx="14810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P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11"/>
          <p:cNvSpPr/>
          <p:nvPr/>
        </p:nvSpPr>
        <p:spPr>
          <a:xfrm>
            <a:off x="3608280" y="476244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Sp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12"/>
          <p:cNvSpPr/>
          <p:nvPr/>
        </p:nvSpPr>
        <p:spPr>
          <a:xfrm>
            <a:off x="446256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1611360" y="4762440"/>
            <a:ext cx="16286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pt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4"/>
          <p:cNvSpPr/>
          <p:nvPr/>
        </p:nvSpPr>
        <p:spPr>
          <a:xfrm>
            <a:off x="409680" y="3914640"/>
            <a:ext cx="1628640" cy="6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63256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alT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6480000" y="3924360"/>
            <a:ext cx="162900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VK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18"/>
          <p:cNvSpPr/>
          <p:nvPr/>
        </p:nvSpPr>
        <p:spPr>
          <a:xfrm>
            <a:off x="7129440" y="3059280"/>
            <a:ext cx="162720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19"/>
          <p:cNvSpPr/>
          <p:nvPr/>
        </p:nvSpPr>
        <p:spPr>
          <a:xfrm>
            <a:off x="7480440" y="4772160"/>
            <a:ext cx="162864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50"/>
          <p:cNvGraphicFramePr/>
          <p:nvPr/>
        </p:nvGraphicFramePr>
        <p:xfrm>
          <a:off x="4859280" y="1484280"/>
          <a:ext cx="51588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515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8"/>
          <p:cNvGraphicFramePr/>
          <p:nvPr/>
        </p:nvGraphicFramePr>
        <p:xfrm>
          <a:off x="5219640" y="2349360"/>
          <a:ext cx="50796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34936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Oval Callout 22"/>
          <p:cNvGrpSpPr/>
          <p:nvPr/>
        </p:nvGrpSpPr>
        <p:grpSpPr>
          <a:xfrm>
            <a:off x="5730840" y="1163520"/>
            <a:ext cx="3468600" cy="1841760"/>
            <a:chOff x="5730840" y="1163520"/>
            <a:chExt cx="3468600" cy="1841760"/>
          </a:xfrm>
        </p:grpSpPr>
        <p:pic>
          <p:nvPicPr>
            <p:cNvPr id="296" name="Oval Callout 22" descr=""/>
            <p:cNvPicPr/>
            <p:nvPr/>
          </p:nvPicPr>
          <p:blipFill>
            <a:blip r:embed="rId5"/>
            <a:stretch/>
          </p:blipFill>
          <p:spPr>
            <a:xfrm>
              <a:off x="5730840" y="1163520"/>
              <a:ext cx="346860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469200" y="1449360"/>
              <a:ext cx="221616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Find me compounds that inhibit targets in  NFkB pathway assayed in only functional assays with a potency &lt;1 </a:t>
              </a:r>
              <a:r>
                <a:rPr b="0" lang="el-GR" sz="1400" spc="-1" strike="noStrike">
                  <a:solidFill>
                    <a:srgbClr val="10253f"/>
                  </a:solidFill>
                  <a:latin typeface="Comic Sans MS"/>
                </a:rPr>
                <a:t>μ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M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Oval Callout 23"/>
          <p:cNvGrpSpPr/>
          <p:nvPr/>
        </p:nvGrpSpPr>
        <p:grpSpPr>
          <a:xfrm>
            <a:off x="3578400" y="444600"/>
            <a:ext cx="2700000" cy="1658880"/>
            <a:chOff x="3578400" y="444600"/>
            <a:chExt cx="2700000" cy="1658880"/>
          </a:xfrm>
        </p:grpSpPr>
        <p:pic>
          <p:nvPicPr>
            <p:cNvPr id="299" name="Oval Callout 23" descr=""/>
            <p:cNvPicPr/>
            <p:nvPr/>
          </p:nvPicPr>
          <p:blipFill>
            <a:blip r:embed="rId6"/>
            <a:stretch/>
          </p:blipFill>
          <p:spPr>
            <a:xfrm>
              <a:off x="3578400" y="444600"/>
              <a:ext cx="2700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014720" y="698400"/>
              <a:ext cx="18288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Let me compare MW, logP and PSA for known  oxidoreductase inhibitor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Oval Callout 24"/>
          <p:cNvGrpSpPr/>
          <p:nvPr/>
        </p:nvGrpSpPr>
        <p:grpSpPr>
          <a:xfrm>
            <a:off x="139680" y="517680"/>
            <a:ext cx="3048120" cy="1566720"/>
            <a:chOff x="139680" y="517680"/>
            <a:chExt cx="3048120" cy="1566720"/>
          </a:xfrm>
        </p:grpSpPr>
        <p:pic>
          <p:nvPicPr>
            <p:cNvPr id="302" name="Oval Callout 24" descr=""/>
            <p:cNvPicPr/>
            <p:nvPr/>
          </p:nvPicPr>
          <p:blipFill>
            <a:blip r:embed="rId7"/>
            <a:stretch/>
          </p:blipFill>
          <p:spPr>
            <a:xfrm>
              <a:off x="139680" y="517680"/>
              <a:ext cx="30481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27120" y="728640"/>
              <a:ext cx="20746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“</a:t>
              </a:r>
              <a:r>
                <a:rPr b="0" lang="en-US" sz="1400" spc="-1" strike="noStrike">
                  <a:solidFill>
                    <a:srgbClr val="10253f"/>
                  </a:solidFill>
                  <a:latin typeface="Comic Sans MS"/>
                </a:rPr>
                <a:t>What is the selectivity profile of known p38 inhibitors?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4"/>
          <p:cNvGraphicFramePr/>
          <p:nvPr/>
        </p:nvGraphicFramePr>
        <p:xfrm>
          <a:off x="3132000" y="1844640"/>
          <a:ext cx="50796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32000" y="184464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539640" y="1989000"/>
          <a:ext cx="507960" cy="501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1989000"/>
                    <a:ext cx="507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BD4C-9CF4-43D7-AA85-3C5B94ACC99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Screen Shot 2012-11-14 at 2.27.06 PM.png"/>
          <p:cNvPicPr/>
          <p:nvPr/>
        </p:nvPicPr>
        <p:blipFill>
          <a:blip r:embed="rId1"/>
          <a:stretch/>
        </p:blipFill>
        <p:spPr>
          <a:xfrm>
            <a:off x="-7920" y="480960"/>
            <a:ext cx="9144000" cy="53215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94760" y="115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PHACTS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Calibri"/>
              </a:rPr>
              <a:t>PharmaTrek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313" name="Picture 5" descr="Screen Shot 2012-11-14 at 3.09.55 PM.png"/>
          <p:cNvPicPr/>
          <p:nvPr/>
        </p:nvPicPr>
        <p:blipFill>
          <a:blip r:embed="rId1"/>
          <a:stretch/>
        </p:blipFill>
        <p:spPr>
          <a:xfrm>
            <a:off x="539640" y="826920"/>
            <a:ext cx="79520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E9D-A717-44BF-9482-A174BFE07F2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920880" y="528480"/>
            <a:ext cx="8029440" cy="4845240"/>
          </a:xfrm>
          <a:prstGeom prst="rect">
            <a:avLst/>
          </a:prstGeom>
          <a:ln w="0">
            <a:noFill/>
          </a:ln>
        </p:spPr>
      </p:pic>
      <p:pic>
        <p:nvPicPr>
          <p:cNvPr id="317" name="Bild 2" descr="ScreenShot_CBN_Grid.tiff"/>
          <p:cNvPicPr/>
          <p:nvPr/>
        </p:nvPicPr>
        <p:blipFill>
          <a:blip r:embed="rId2"/>
          <a:stretch/>
        </p:blipFill>
        <p:spPr>
          <a:xfrm>
            <a:off x="2668680" y="1154160"/>
            <a:ext cx="4495680" cy="32115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192960" y="2602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BioNavig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1-27T18:34:18Z</dcterms:modified>
  <cp:revision>196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